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B3BB-29FE-4DFC-ABCD-8306130A591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A545-C0FF-4B3D-90A9-1AD0357ACEC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6A3D-02E5-4337-BD40-31387C48F86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B7B-F4E2-4281-96AE-C02A0143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45C-1B5C-4B96-A247-FEAED5AA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3FC-54F9-49EE-84BE-9AF42DE2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1625-26CD-4CD9-B9B7-937356A1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1724-0ABA-47FF-B082-096C7E71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BA24-2A9E-4D8E-A567-E63344E4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F474-4FCD-4208-A059-65AF4B46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9ACD-8D56-4745-9BFB-2F7F714E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CBEE-8D5A-404E-B5E5-298EAACD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EC87-8F73-4912-8500-4FFC39AD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DEF9-D36D-4095-8404-D5269B9A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637-9535-4ED1-82F4-9CA378E2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D74E-4121-477F-996D-38F6AAA3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539A-943D-430F-B8BE-323FDB7C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1746-DAAC-4A6E-8A25-9D7B33B0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02A3-0CE9-4322-8650-DE61F126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FA85-FDA8-42BB-9E56-A311D80B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66D86-1510-43B4-B9A8-98CE3121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F5514-F2CA-408D-837C-DDFB8777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DC7F4-910F-4B15-8103-50631D9D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DC488-F10D-4CDD-A7F2-DC2FAC7C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83C97-98DA-4190-B784-D79059E7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AE6-F170-44E6-9B2D-75DEB683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E21AC-E06D-4B59-A903-6B653859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B390-1F87-4212-9C20-35132990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C1507-EF6A-4C82-B3E5-C18DA3D3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DB76-09E8-4584-B493-0A2EA9F5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4083-3287-4CCF-A02B-51B816EE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20794-7553-40F2-8E2C-C14E4BCC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119B2-0188-40A3-8BC0-940638AC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0E559-98E9-42FE-BE93-2F13E7B2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4DCAB-9DAA-4FB1-B82D-ACEB62C0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43D79-EF1E-474E-B8B2-B54CAF77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AF4-47FB-4641-BCCB-CEFBD0D0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A4BEB-F26B-4A4A-ACA5-DD211294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1D85D-7BD5-40E4-A84A-7AF7E00F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D648C-2727-41B5-89B9-EBAFC233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DF986-2728-40AE-B58C-13068F26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1471A-B0F6-4690-9611-EBDA6BF8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9D05D-F731-4A11-9F92-F4E2ABB0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B60BF-FDA0-4E7E-B133-4138F335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021C-9ECC-4346-98AE-D5480BF0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FC0F3-0E32-43C3-AC3B-FCC1655B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4743D-6450-4485-A21F-4E883A4F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D42-3167-4E18-8505-72F8BBA3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6A3BF-BB7B-409A-B275-A3ACFDD8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1F4CE-02A4-40BB-8FD4-F8BFFD76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2A42A-F766-4B65-8970-30AA64C1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A82F0-A331-411E-A0C5-D451A3FC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B015C-0AD1-4B9F-85E1-0EA9B298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CD9B1-07B7-4FAF-9886-D7627D45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C38D5-967D-4CC4-A6BD-4A37AED7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199EB-4C5B-4577-A47E-05BD35DF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6ED1C-74B2-4B02-95FA-EB485E8A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375CB-AB1C-4FBB-82B9-A82BB2F5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7D8-6538-43FB-9C98-A1BF9181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EBF3D-FEA2-429E-88B3-3A728E08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F9B47-AB35-4DD7-9D4B-F08FC93D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D4B0F-A4E4-4F1F-BD8C-A2B1DB17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EE3E1-AE3A-4B17-BF43-EE149A95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F1821-C4E5-49B5-BDC0-C5EEC2A2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AEBA3-4AD9-495E-8146-8DF9AA5E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8855E-FC57-419C-83EF-0E838821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BF505-9971-477F-8011-870011B3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54609-46D8-4BFC-A5C9-2F6B7E15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9C3E2-18DA-419B-8F2F-7E5CD882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DD3-364D-4A34-9051-B3B13DAD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2A27A-EEC3-4024-BA6C-926505E1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FF421-558A-464E-A395-208FCE9E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7724A-5ACF-4A28-8598-1779D1A1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BC6-0C35-4985-8DAC-BAD61622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211-3B24-4FB4-A02D-3C6C65F5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0262-7497-49E9-9FEC-1E6DD3F76FD3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B9BB-24A6-426E-A248-EAFED3D08E2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47A8-BEAC-45DC-AC3B-C41A84F673B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248D-6FFD-4BC7-AAF6-88F4609A251A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7FFB-9AE5-4DCB-8DF9-51A9648DCD2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4CCE-7A18-4E5C-A8EC-B7BA9AE3210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2425-565D-405C-82BF-F28C01C8F64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12A3-0E1E-4819-AD97-06C999830C6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72FB-C711-484A-A8FB-455F8EDB2C62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73B3-CDDD-4E2E-B4E4-85103630190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992C-2959-4818-A085-436F4E88B65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F3AD-B332-44F2-B612-2325B4D2E48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Julh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agost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34800" y="1268280"/>
            <a:ext cx="1080144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l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078524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08014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de Jul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301680" y="1413000"/>
            <a:ext cx="1083456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08014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de Jul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34800" y="1338120"/>
            <a:ext cx="108014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Jul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535040"/>
            <a:ext cx="10801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l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34800" y="1417680"/>
            <a:ext cx="10801440" cy="510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Zila de Jesus de Oliveira - MPS</cp:lastModifiedBy>
  <cp:lastPrinted>2017-01-26T10:42:46Z</cp:lastPrinted>
  <dcterms:modified xsi:type="dcterms:W3CDTF">2017-08-23T18:41:30Z</dcterms:modified>
  <cp:revision>430</cp:revision>
  <dc:subject/>
  <dc:title>Demografia</dc:title>
</cp:coreProperties>
</file>